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C12-EF20-41BF-A42D-1AB52E30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58B-11E8-471E-9BF6-B75CF81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CCB6-B7FA-47E1-BBDD-877A154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ABF1B-C674-4C2D-9F62-BB24FED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9E9B-681A-4D2E-93BC-612624A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D816E-178F-456C-ABFA-33B10B1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3C0A1-B05C-4234-AE6A-A039C93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0282-2C13-41E0-894C-D9CDA96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09E9-5B8C-4F63-9A26-DB0D662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67DD4-3861-416E-8C45-F6938B0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0B44B-B29B-49F8-8202-3B584E9F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DC862-8452-4739-B321-825DF820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6FF-32DB-4047-8796-77D27FB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F99BC-E6CE-4666-B0C2-22B0175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CA7EE-E627-4B65-B8DC-914705AC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8DA9E-9FFD-4ADD-976F-0FA37E2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87934-28B7-436E-BE00-98A7397B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8FD8-8B90-4E28-A8BB-423CD704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B9936-9F0C-4BEE-AEDF-186E69B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1271C-D0E4-4A92-A19C-A87494C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3B8ED-47AE-4E90-881F-EDA8954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1BB76-AF0F-46E1-AD80-BC361D9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BC36-4D87-498E-93C0-2D406A56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F81-68A9-43AA-87B9-50000BD8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FEAF3-5BA1-432E-BA36-AE3E5EC6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3663-0348-403E-989E-DCD43DAB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4692-59F0-408E-8B0B-3BE15D8F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F2A99-0C7B-4268-A058-E77CD48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4BC25-D9CA-46E4-A9FD-AA36292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87F38-79C8-4EB9-82ED-2ABFB61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EC28-7EB0-4E5C-A44B-1361716E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7E01A-A747-4330-B1D6-D43FB30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F74AE-7952-489F-A855-0F22200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5829-F295-4E9D-B297-FF12048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442F-9705-41E6-AB87-9E089E72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FCF48-D915-4721-B0C6-AAEEB3A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D421-BA9D-4D8F-B19E-D54F5435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1428-F52C-403D-8D00-D21B7447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A889B-FFA3-4A2A-B8C6-275803A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C43B2-90B1-4778-9671-2BBFB7B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E4C93-E7E6-4E6D-9A29-7C639C35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6EDE7-8A9D-486A-8896-BCC9D3A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C939B-408A-4DFB-86AC-40742005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3B6D8-375D-4C19-9FBF-515F6FE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407C2-DCD4-4BFE-8643-39660D8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29D-1994-4425-882D-5B0AD0D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739A1-FE3B-42A4-9BBF-18E09A9E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9303D-1FA4-4388-900A-EEA45AD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76289-2F49-4FE3-B4A9-9C46DCB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FE942-A728-4102-A516-0A10B55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5C4C-526C-4D82-8B74-6680A1FE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39742-7DAD-4DF6-BC6A-9C86261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90DFE-A543-4AA1-A562-27731829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7BE7C-25BD-4A1E-8A65-270F73FE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4B812-AABE-4200-B984-155200D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89E40-1AEF-41F8-811D-F0113DDE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966-C07F-4C7C-95AF-9574F411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72C3E-3FC9-41FF-9636-60396C3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8420D-B688-488D-96A9-B18665A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FD090-6FA3-4E2B-8D38-D9CE463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EAEF1-29C3-4097-8BB2-E4EF4DF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7155A-AB23-4F7B-AE82-92A16E2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B7BE8-766A-4D0C-975A-3CE3365C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5240C-F07C-41C0-9B19-7690920A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3CAC7-662A-4AB8-9A05-9BF023C1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57114-D50C-4C8B-AE8B-CBAE383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8D1D2-182C-4D53-B17F-EB5DE08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B620-B254-434F-A083-4E8FB392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39A2B-2B3B-4D58-BC4F-4A12E8D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94BFA-EFB2-4996-937C-3FA9B75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1D2EA-4B05-4AD5-BA7B-AD8D15B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9FF49-34A3-4D6B-90E5-C6D9B23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FE8FE-FEA1-4C41-81F4-FE99ED3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1CD1D-6B56-4432-8DF8-2CE709B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6F876-8E0A-45FC-B3F7-7E22D933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BCF29-F4E5-461E-9CC5-BB739116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C08A3-061E-42FC-AEC2-1FE0F0D4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4BE80-E99E-47A6-9F11-8384CD16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2DB5-62AE-45CC-A3C2-1A98C18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6368A-6DC0-4FC0-986C-6DAF753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F42C1-C465-4C47-B647-F1A40D67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1F259-42CE-4DEC-8F1A-0931ED85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CE9FB-5641-411D-B1DA-93A09C4E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431AC-3948-4F46-91DC-07D6910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FDBCD-5DAC-4EB0-AC09-6807AFD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113DF-6B60-494E-85A6-F6C16FEB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09F18-972D-40AE-BF16-9E5BFD2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83D7F-0624-4146-B258-77D1D6E3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B6D31-A820-45EE-A65C-54E0D927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B185-DAE8-44F0-970C-C3E581A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0BBB7-326E-46E4-8484-45519ED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1026B-220E-4148-B91C-2B5FFCBE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D0776-9E8F-4EDD-AC4F-596CAB10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61614-A014-4557-AC41-4EDC01D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B7DC8-F58B-4137-A87D-405B902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81EA6-004A-47BF-A5D4-167A946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AF973-F102-4591-98A2-79C67B4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8C2AD-0421-43F7-8EBB-E4887AF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1A8C2-A964-47D3-9B99-B1DE46F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417CE-4A3A-4454-A446-8545A60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0A2-2EEA-4395-A63F-2C33096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1A8B5-BC6D-4E70-ABEA-C3686BB5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9B1D3-37AB-4DBB-8701-FDD5D443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CF391-1C56-4647-8152-9D5F013F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FB5C5-AAFD-46EF-95F2-FAF3DB55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1F24B-EC44-4EA6-A7BC-50ABA7E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36E8D-6440-43EE-9DFA-DC74DFC6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B1C2C-52C7-4491-B697-B43ACD9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FEED7-A1EA-40AA-A252-D662E80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2205E-884C-4A6B-A600-C3C09D2E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BF1C7-6C4E-4E6C-BE6F-6526071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C1A-E5E5-412F-ABB9-F3B0681E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C357-DD18-44D3-972E-FBEA293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E7922-B3D9-4319-B0EF-B4CDBD7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FB146-8D7E-4780-8B7F-8B5EC83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80EA4-8279-488B-A6D5-00641AD0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E5E74-0B82-4D39-A580-1EBE4CFA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3276C-B6A8-4D0C-9771-4EA8F97E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B919F-76C7-4528-AE88-A419E89B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8F2A2-1E2C-4E77-88D0-431C62D2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7B85D-22C2-43BB-9659-0ACD6B6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3C9C4-8821-4C45-9CAC-D9A84576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2218E-A811-4193-B94D-3AEB6BBD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543-E804-4262-A20B-FDC0DF45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5411C-BA9D-4413-BFB7-DAC78836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8CEF4-DEDE-425A-B4CA-1B9F062B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56047-F753-445A-B872-1F0538D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2ECE2-8206-44AD-8DAD-F920212E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F6233-D8D8-44A0-B75C-A5D6EE3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1838C-80DD-401B-9AEC-79E18345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C5AE8-55E2-4B37-99A3-A7B01F35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CA4C4-0A67-4482-A7F1-C4C6361B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8FB04-C30E-4DA8-A6E9-E36306B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674D1-4542-4CF2-BD71-7398A425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83A-9E93-4856-97B0-A9EC8DC4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53644-3BE2-474A-B480-6BD6A11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E2F99-648D-4986-BB61-662A737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E08E5-4D7E-48B2-9213-370AAA4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56368-4AD8-4D86-A3BA-D662DF2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2FDDD-FED2-4677-9EEA-DB3766BB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70BF2-2B82-401B-9125-ED5EDEE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0E6C5-2802-4D04-B63F-62B55780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837A8-AACE-4EC4-AABC-A78F648D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082A8-2CA8-40A4-A177-599F9FE0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85798-25B9-4E24-99D0-A9CD50F4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E90-D08D-4BE8-BFCC-06DB88E1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0DC3D-5C39-4262-BD39-B339F8BD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C7333-3006-4B16-B5A9-A485019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A40E5-3875-414D-A527-6097AE8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023AE-6D9E-4EDA-8493-3F8DB0E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6A373-1890-450E-99E4-248E9FB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F31C8-2384-409E-BE4A-9A16F13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AB68F-53D7-4F16-BE29-A5830E25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03242-E014-4029-8A64-4AEFF3B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191DE-FFDB-4820-812B-B6A9D1E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82F33-36EE-40A7-8F5E-0AF387C8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86D-9284-427C-BFA8-76C7A890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A8BCC-C94D-46F7-9F02-228B4788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A80F8-D08D-4DE9-A717-BC98C897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783F1-9E45-4346-91B7-1E31BC5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D753C-8474-44D8-9542-ABEC832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2DCEA-68BD-46B1-8EA9-B5F353D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0B4C1-6445-42CE-8142-D8047D0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76D9B-BB66-4FB5-B38E-8CD6C6C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51798-BF2B-40F7-9A07-67D1F9F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48C46-9E77-4232-B642-15B3492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82F766-97DE-4C48-A5F4-B69A98B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32F9-3752-433A-93A0-EB27C5D7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546B9-BAFC-4ED4-864D-7818D7C7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C971C-A946-4E10-930C-7AD7587A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9786E-6773-4F4B-84BF-C47324B9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3F0A-2528-4CC8-8A34-D0CB74A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43B9-AD6F-493B-9728-E60507F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504D-DC21-4D34-A825-3CD2761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B3FB-EA49-481E-BC4A-4C9A789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788-5162-4904-8586-0BA31725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2798-2711-4520-A24A-3691BA15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E3EF-1F45-4558-AB4F-2899A89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5E46-A272-4480-A309-9F2A6E4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48FE-AF93-4130-B412-7A1CE1C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80C1-3B5C-49A4-8D47-805CC8D6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8280-70C7-4DD3-86FE-E4844BAA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26E9-E596-452A-B784-DC7A3A32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5371-7213-4348-969C-B97215A6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BF32-D2AB-4CC1-9B06-A536788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750E-4730-44FD-95DA-A1A3DB1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409-9574-4194-864C-8DE6F270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2CB0-71A7-4F45-AE54-348EED0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FC83-BC3B-41FA-917C-9215288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EA51-A8FD-4B88-BD81-7B42B11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DF23-7CBF-42D2-9FD5-87FDAF5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D202-FCB7-4B2E-9436-FB16940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218F-A898-4DCC-B0E3-29A5A11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14CE-6DC7-4B0E-BA59-77C8AE0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93ED-87F1-45C7-BB3A-AB332A5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9FE8-6979-4F66-99B2-DCBD5741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20F8-41EE-4368-B256-618A3E7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7AA-2BC6-4D09-8993-BC22FD6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E8BE-D1E4-455C-835C-C61F1620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F149-D25F-442F-8097-7B9EA585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A4DE-29AC-4C0B-A8B6-0C4F2482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EE2E4-6653-48CF-BD24-CA86943D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EE86-7880-44D0-A8F5-D0A0096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0B6A-953A-40B4-A088-569DABC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E690-DB89-4C62-B2DE-E5109B4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7A91-56CE-4600-847A-7B1CDA1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D8D7-22DA-4FE9-B187-25FC460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372A-163C-410D-8188-229D1498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4F5-51AF-4A38-8DB9-4BD1F3B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4FC4-94BC-48C0-B283-0B6712ED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F0173-BCCD-4930-BADA-8DB5504B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646A-F87A-4108-B46D-133E130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8861-B18B-465A-83AA-C2E4542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2C467-6615-4BEA-9988-BD2205AB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13D7-EDA1-483C-8371-8D0DAB73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5A52-6833-46CE-9B43-03C615DF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12F3-43E3-4081-8EC7-8971C5B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CCF7-8201-4E4F-A725-9AF5FD0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21B7-7159-497E-A51D-39C23AA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E49-E1D6-4869-AD1C-B1040F4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152D-141A-494D-9D0A-8AE497D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6E74-4014-4D2D-B6B3-127CF844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A133-8FC6-4679-AB68-298AD10C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A236-BB88-4EDB-AA94-CC90C901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821A2-40DC-43BB-B806-50291E0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7BEB-7555-42DE-8F32-E11E81A7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6FD1-4037-4472-A911-DE942A8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1328-25BD-4934-8D82-BAF2A19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1E9C-554D-4A1D-9EA3-9EC304E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D07D-65A5-4DFC-B4CE-D30991F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59F-89BD-473F-841C-E896B23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4980-8410-4295-A072-6A1053A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08385-DC64-4934-8FA9-E069D6F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349D-0B31-4385-B611-096CCF03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5082-AF63-48D2-B6B3-5E1AC60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D1C75-4316-480E-83E6-6E2B907B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92DAA-C43D-456A-848B-438FD593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435A-9E6B-415E-BD33-7A77A1F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28876-1828-49B3-B025-5BE919B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7A45-33C2-4A43-860A-3D6BF682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D517-7212-4BCA-86D9-D5A44E7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EE1-AF65-4B45-BF14-299C95C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20A3C-6FF1-4460-BC1B-7BB5AF4D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7497-CF4C-4694-9C0A-C12F6D9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CA9AC-7474-48E3-9DC1-6B6A071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7811-DEEB-4EE0-B57F-0E6B567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F697F-6D46-4BE8-B405-D823C53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DA67F-E1A2-4357-A458-976150BA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F39D-8072-4D14-AA5B-80FFB634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FE096-97FF-4FFC-8BAE-51E9825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E464-7B4C-4398-B616-51655CA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478CB-1899-426B-878E-9B9E0979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53FD-2BF6-499E-8566-556A241C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E9C3-16A0-4D87-BACD-99E414AF3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7CA-354E-46AD-9C6E-0CBDA6B9F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AA19-60A9-4956-9A0D-D12042AE3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3EC5-8A69-4E8D-9851-7C724CAFB2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EE2-2EC0-49C0-9AEA-FA046E32F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0D3-523E-43AF-8B89-907EC6734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EDF-475A-4801-95B8-F74BFFB44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086-5F09-493F-BCED-1AC393C4C9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1A6-F836-4B5C-A063-E90A63258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FF40-888D-40B9-8D38-ECB29EB2A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C68-7D7B-42AA-B782-D7E0F52FCD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C1C-1ABE-403D-9D4A-E0F7201FE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316-CD19-4D2A-A3AF-6DF2805B8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972-C9A1-4030-9C2E-87CEA2A1F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E5C-A5E3-44AF-AA17-17DF0CED8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CFC-D6D8-4811-9259-48D5C344F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62F-71DC-457B-B01A-1171415BD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9E7-AF38-4A51-BE2C-831108B6D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C85-CF4B-4940-A459-244DCA80D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93AA-2F34-4839-A627-C5EE216FB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E632-FE6A-465F-9392-2B5D82994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151A-17B1-4892-ADE0-3BA7ABFE6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BC6E-C29F-47F5-87CD-7FD61AF373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293-A5DF-47B7-BD2A-F5E9C3786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8B9-31F9-4911-B290-50D5E0CC2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D283-22B1-45D7-ADF8-4AB7C7412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EAF1-8458-4C8C-A7CB-88CEE7DD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4CA4-B1E8-4CA2-80B7-A55A586A5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937-CAB7-4516-9B90-54D3F8936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F5A-214B-4D96-9AC5-118050B41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E97-EA8C-47DC-B3E5-C6FAB9F53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211-5D57-48D0-A581-F4C254BF5F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F95-5E8E-4E3C-8AA5-7C77191E5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4E4-2376-4000-8AEE-5FDCB91CC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F96-65EC-4A11-A485-D3304BC77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5AE-245F-40FE-93E5-3E3872ED5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CEA-67F6-4D50-944D-19B46ADCF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EC8-64F8-48CC-995B-22296368B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1819-7600-4640-B9CA-41BB63731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6" descr=""/>
          <p:cNvPicPr/>
          <p:nvPr/>
        </p:nvPicPr>
        <p:blipFill>
          <a:blip r:embed="rId1"/>
          <a:stretch/>
        </p:blipFill>
        <p:spPr>
          <a:xfrm>
            <a:off x="500040" y="2867040"/>
            <a:ext cx="8286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504720" y="885960"/>
            <a:ext cx="8134560" cy="5086080"/>
          </a:xfrm>
          <a:prstGeom prst="rect">
            <a:avLst/>
          </a:prstGeom>
          <a:ln w="0">
            <a:noFill/>
          </a:ln>
        </p:spPr>
      </p:pic>
      <p:sp>
        <p:nvSpPr>
          <p:cNvPr id="1064" name="矩形 4"/>
          <p:cNvSpPr/>
          <p:nvPr/>
        </p:nvSpPr>
        <p:spPr>
          <a:xfrm>
            <a:off x="6775560" y="825480"/>
            <a:ext cx="14396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"/>
          <p:cNvSpPr/>
          <p:nvPr/>
        </p:nvSpPr>
        <p:spPr>
          <a:xfrm>
            <a:off x="1071720" y="1736640"/>
            <a:ext cx="1000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6429240" y="222876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"/>
          <p:cNvSpPr/>
          <p:nvPr/>
        </p:nvSpPr>
        <p:spPr>
          <a:xfrm>
            <a:off x="3357720" y="3143160"/>
            <a:ext cx="12855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8"/>
          <p:cNvSpPr/>
          <p:nvPr/>
        </p:nvSpPr>
        <p:spPr>
          <a:xfrm>
            <a:off x="2714760" y="407196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3071880" y="4992840"/>
            <a:ext cx="1000080" cy="371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5"/>
          <p:cNvSpPr/>
          <p:nvPr/>
        </p:nvSpPr>
        <p:spPr>
          <a:xfrm>
            <a:off x="785880" y="27860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1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6876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191440" cy="34480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5"/>
          <p:cNvSpPr/>
          <p:nvPr/>
        </p:nvSpPr>
        <p:spPr>
          <a:xfrm>
            <a:off x="785880" y="27860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181720" cy="5029200"/>
          </a:xfrm>
          <a:prstGeom prst="rect">
            <a:avLst/>
          </a:prstGeom>
          <a:ln w="0">
            <a:noFill/>
          </a:ln>
        </p:spPr>
      </p:pic>
      <p:sp>
        <p:nvSpPr>
          <p:cNvPr id="1028" name="矩形 4"/>
          <p:cNvSpPr/>
          <p:nvPr/>
        </p:nvSpPr>
        <p:spPr>
          <a:xfrm>
            <a:off x="928800" y="10000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914400" y="41292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14360" y="1585800"/>
            <a:ext cx="8315280" cy="3686400"/>
          </a:xfrm>
          <a:prstGeom prst="rect">
            <a:avLst/>
          </a:prstGeom>
          <a:ln w="0">
            <a:noFill/>
          </a:ln>
        </p:spPr>
      </p:pic>
      <p:sp>
        <p:nvSpPr>
          <p:cNvPr id="1031" name="矩形 4"/>
          <p:cNvSpPr/>
          <p:nvPr/>
        </p:nvSpPr>
        <p:spPr>
          <a:xfrm>
            <a:off x="1000080" y="16430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928800" y="342900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6771960" cy="486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571680" y="1928880"/>
            <a:ext cx="8153280" cy="3724200"/>
          </a:xfrm>
          <a:prstGeom prst="rect">
            <a:avLst/>
          </a:prstGeom>
          <a:ln w="0">
            <a:noFill/>
          </a:ln>
        </p:spPr>
      </p:pic>
      <p:sp>
        <p:nvSpPr>
          <p:cNvPr id="1035" name="矩形 5"/>
          <p:cNvSpPr/>
          <p:nvPr/>
        </p:nvSpPr>
        <p:spPr>
          <a:xfrm>
            <a:off x="3857760" y="2000160"/>
            <a:ext cx="1785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5961240" y="2455920"/>
            <a:ext cx="1785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4594320" y="337824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5429160" y="3857760"/>
            <a:ext cx="1285920" cy="336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9"/>
          <p:cNvSpPr/>
          <p:nvPr/>
        </p:nvSpPr>
        <p:spPr>
          <a:xfrm>
            <a:off x="3060720" y="4749840"/>
            <a:ext cx="16430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76280" y="1371600"/>
            <a:ext cx="8191440" cy="41148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4"/>
          <p:cNvSpPr/>
          <p:nvPr/>
        </p:nvSpPr>
        <p:spPr>
          <a:xfrm>
            <a:off x="4754520" y="225756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6215040" y="228600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7647120" y="2254320"/>
            <a:ext cx="9968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1000080" y="2697120"/>
            <a:ext cx="11430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857160" y="364320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2428920" y="3643200"/>
            <a:ext cx="9288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2500200" y="4125960"/>
            <a:ext cx="1000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3340080" y="5054760"/>
            <a:ext cx="1285920" cy="363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5051520" y="5046840"/>
            <a:ext cx="2020680" cy="371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61880" y="2038320"/>
            <a:ext cx="8220240" cy="27813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4"/>
          <p:cNvSpPr/>
          <p:nvPr/>
        </p:nvSpPr>
        <p:spPr>
          <a:xfrm>
            <a:off x="2320920" y="2532240"/>
            <a:ext cx="785880" cy="371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3571920" y="2500200"/>
            <a:ext cx="8571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4786200" y="2500200"/>
            <a:ext cx="1071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6365880" y="253512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4665600" y="389268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857160" y="435780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0"/>
          <p:cNvSpPr/>
          <p:nvPr/>
        </p:nvSpPr>
        <p:spPr>
          <a:xfrm>
            <a:off x="2571840" y="435780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4" descr=""/>
          <p:cNvPicPr/>
          <p:nvPr/>
        </p:nvPicPr>
        <p:blipFill>
          <a:blip r:embed="rId1"/>
          <a:stretch/>
        </p:blipFill>
        <p:spPr>
          <a:xfrm>
            <a:off x="500040" y="880920"/>
            <a:ext cx="8143920" cy="5334120"/>
          </a:xfrm>
          <a:prstGeom prst="rect">
            <a:avLst/>
          </a:prstGeom>
          <a:ln w="0">
            <a:noFill/>
          </a:ln>
        </p:spPr>
      </p:pic>
      <p:sp>
        <p:nvSpPr>
          <p:cNvPr id="1059" name="矩形 6"/>
          <p:cNvSpPr/>
          <p:nvPr/>
        </p:nvSpPr>
        <p:spPr>
          <a:xfrm>
            <a:off x="4443480" y="3854520"/>
            <a:ext cx="7858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"/>
          <p:cNvSpPr/>
          <p:nvPr/>
        </p:nvSpPr>
        <p:spPr>
          <a:xfrm>
            <a:off x="4714920" y="4343400"/>
            <a:ext cx="9288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8"/>
          <p:cNvSpPr/>
          <p:nvPr/>
        </p:nvSpPr>
        <p:spPr>
          <a:xfrm>
            <a:off x="6643800" y="4786200"/>
            <a:ext cx="15001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9"/>
          <p:cNvSpPr/>
          <p:nvPr/>
        </p:nvSpPr>
        <p:spPr>
          <a:xfrm>
            <a:off x="2593800" y="5718240"/>
            <a:ext cx="15386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6:1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